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20A3-CDEA-472B-9AAB-EA55DB04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C3AD-D13B-4688-8C2D-C1C37D83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C45-D66F-4DEF-AE8A-EC437DF8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D19-C071-4E50-BFE9-DCA9EDC1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2867-C45F-4F3B-83A6-D8EC9EFC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225D-0995-4904-9BC6-5E5D2A04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097A-DA61-4D52-99B2-470E0A90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F133-DF4E-417C-A910-60738D08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B4BC-641B-4E4A-9D02-FA548713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E49A-FF54-483D-9BEF-9DA9C292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40A3-8F84-47A9-B911-F39376ED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EB7-067B-4AE5-A0BC-CA328D36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BFF2-A582-4B0A-8B71-10C66B38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E0F7-F8B9-4359-81FA-7C986084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1E1A-B1DD-449E-A18A-5F4B7DC0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5E38-4F66-476D-A866-61675B41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090B-EB83-4A6E-9346-47FF0EC1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208-701E-443A-873F-D63E6615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DE0-E1AC-47D6-BEE8-894007EC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C29-83E7-4AFE-9401-5D036816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2DB-8F60-4D1F-91FD-7F9080B1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AC7-9C62-4F1C-B3E6-8C0AD3C0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D5E-EF75-4B90-965E-FC4A8829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F6C-A781-4B59-9EB6-EBBF3DD7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4962-080C-4CA1-BE36-58F727C0C0F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E1DA-32A5-49E3-ABF2-259C713AF26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bible.gospelcom.net/bible?version=KJV&amp;passage=Ge+12:1-9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bible.gospelcom.net/bible?version=KJV&amp;passage=Ge+12:10-13:4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bible.gospelcom.net/bible?version=KJV&amp;passage=Ge+13:5-14:24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hyperlink" Target="http://bible.gospelcom.net/bible?version=KJV&amp;passage=Ge+15:1-17:27" TargetMode="External"/><Relationship Id="rId13" Type="http://schemas.openxmlformats.org/officeDocument/2006/relationships/image" Target="../media/image3.png"/><Relationship Id="rId14" Type="http://schemas.openxmlformats.org/officeDocument/2006/relationships/hyperlink" Target="http://bible.gospelcom.net/bible?version=KJV&amp;passage=Ge+15:1-6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bible.gospelcom.net/bible?version=KJV&amp;passage=Ge+15:7-21" TargetMode="External"/><Relationship Id="rId17" Type="http://schemas.openxmlformats.org/officeDocument/2006/relationships/image" Target="../media/image3.png"/><Relationship Id="rId18" Type="http://schemas.openxmlformats.org/officeDocument/2006/relationships/hyperlink" Target="http://bible.gospelcom.net/bible?version=KJV&amp;passage=Ge+16:1-16" TargetMode="External"/><Relationship Id="rId19" Type="http://schemas.openxmlformats.org/officeDocument/2006/relationships/image" Target="../media/image3.png"/><Relationship Id="rId20" Type="http://schemas.openxmlformats.org/officeDocument/2006/relationships/hyperlink" Target="http://bible.gospelcom.net/bible?version=KJV&amp;passage=Ge+17:1-14" TargetMode="External"/><Relationship Id="rId21" Type="http://schemas.openxmlformats.org/officeDocument/2006/relationships/image" Target="../media/image3.png"/><Relationship Id="rId22" Type="http://schemas.openxmlformats.org/officeDocument/2006/relationships/hyperlink" Target="http://bible.gospelcom.net/bible?version=KJV&amp;passage=Ge+17:15-27" TargetMode="External"/><Relationship Id="rId2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sis 15-17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sson 10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842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eation – Gen.1-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odnes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Tempter – 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Fall of Man – 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Curses – 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Spread of Sin – 4-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Flood – 6-9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876920" y="1219320"/>
            <a:ext cx="246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ed -lin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10080" y="2057400"/>
            <a:ext cx="141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dam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38680" y="2819520"/>
            <a:ext cx="114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t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38680" y="3657600"/>
            <a:ext cx="129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a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638680" y="4419720"/>
            <a:ext cx="14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em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4689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vision of Nations By Families -1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y God Divided Them – 1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Call of Abram – 1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Promise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reat N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lessing To AL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81480" y="1219320"/>
            <a:ext cx="231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ed-lin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91320" y="2133720"/>
            <a:ext cx="114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em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715000" y="2895480"/>
            <a:ext cx="1447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ra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638680" y="373392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bram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45720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5715000"/>
            <a:ext cx="1295280" cy="228600"/>
          </a:xfrm>
          <a:prstGeom prst="rightArrow">
            <a:avLst>
              <a:gd name="adj1" fmla="val 50000"/>
              <a:gd name="adj2" fmla="val 141654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410080" y="541008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esus Christ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Promis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99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Lan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Great N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Bless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5334120" y="990720"/>
            <a:ext cx="2295360" cy="2971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505320" y="1828800"/>
            <a:ext cx="2743200" cy="380880"/>
          </a:xfrm>
          <a:prstGeom prst="rightArrow">
            <a:avLst>
              <a:gd name="adj1" fmla="val 50000"/>
              <a:gd name="adj2" fmla="val 18005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30481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5000" y="2666880"/>
            <a:ext cx="1104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sra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1219320" cy="533160"/>
          </a:xfrm>
          <a:prstGeom prst="rightArrow">
            <a:avLst>
              <a:gd name="adj1" fmla="val 50000"/>
              <a:gd name="adj2" fmla="val 57174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181480" y="4267080"/>
            <a:ext cx="176220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 Grea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alvatio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294920"/>
            <a:ext cx="738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he Promises to Abram – 12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bram's Migration into Canaan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xii. 1-9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Abram Visits Egypt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xii. 10-xiii. 4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BRAM'S TROUBLES ON ACCOUNT OF LOT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xiii. 5-xiv. 24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Separation from Lot. xiii. 5-13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Lot Captured and Rescued. xiv. 1-16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An Interview with Melchizedek and the King of Sodom. 17-24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OFFSPRING AND CIRCUMCISION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xv. 1-xvii. 27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1. Definite Promise of a Son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xv. 1-6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2. The Promise of Canaan Renewed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7-21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3. The Birth of Ishmael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xvi. 1-16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4. Circumcision Appointed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20"/>
              </a:rPr>
              <a:t>xvii. 1-14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5. Promise of a Son by Sarai. </a:t>
            </a:r>
            <a:r>
              <a:rPr b="0" lang="en-US" sz="2000" spc="-1" strike="noStrike" u="sng">
                <a:solidFill>
                  <a:srgbClr val="f0b854"/>
                </a:solidFill>
                <a:uFillTx/>
                <a:latin typeface="Arial"/>
                <a:hlinkClick r:id="rId22"/>
              </a:rPr>
              <a:t>15-27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[14]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ames Chan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bram = father exalted; high fath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braham = father multitude; father of a great multitud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arai =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y lady; my princes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arah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= lady; princess; princess of the multitud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ircumci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38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ersonal Sign In The Fles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f God’s Covenant With Abraham and His Descenden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d bless our offspring for one of us will bless the whole worl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fter the blessing came, circumcision would be “nothing”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15:18:52Z</dcterms:created>
  <dc:creator>Terry Benton</dc:creator>
  <dc:description/>
  <dc:language>en-US</dc:language>
  <cp:lastModifiedBy>Terry Benton</cp:lastModifiedBy>
  <dcterms:modified xsi:type="dcterms:W3CDTF">2004-08-07T18:58:08Z</dcterms:modified>
  <cp:revision>2</cp:revision>
  <dc:subject/>
  <dc:title>Genesis 15-17</dc:title>
</cp:coreProperties>
</file>